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2F0D-0FDC-4378-8887-18EA679F4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A7BC-6703-4DC5-879A-FD270B595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9288-2B41-4FCE-9129-9B905629A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C9AA-734D-4E22-986A-9A0BE00FE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3668B-B802-4E8B-881F-3AAD9BA4D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A5848-FB0F-4470-AF93-9829840AE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6228E-5EC8-49E5-8505-F616252E2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4B2A6-0179-4AF9-A83E-1D45FEDB6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7A2E8-44AF-4E20-95F3-983FB0CE6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46529-E64F-44BC-AB74-35ADB74E1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AC82C-30D5-40C8-A399-39B2EEE81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4A14-0ECC-4D77-88D9-93AAF75D5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25A72-420E-4A10-AE04-8EBA63E4B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AB52E-EEA3-40FA-8191-949FE451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BF39D-47C2-4FD3-B0CE-D6A8D928F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F89EC-72A4-49DB-8B37-49DC2370C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5B219-891F-455D-A186-818702F65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5E02-FBC7-4189-95EA-E5B2939D8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8550-9FCB-47F1-98D6-2122B4147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E062-0999-4AE8-83AB-92572ACFC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EDDF-2A04-4C57-8948-D23977AF8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80C0-AB62-4DBA-924D-8AF87187B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8691-397F-4032-999D-5820F479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B48D-9469-4124-9EF8-8126B5D3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577F6-F765-4C1E-A1EF-D3672DD3DF39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AA062-8C25-41EB-A88D-BA2D0A555E81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://www.google.com/imgres?imgurl=http://www.iptrademarkattorney.com/trademark-attorney-mexico-futbol-soccer-club-america.bmp&amp;imgrefurl=http://www.iptrademarkattorney.com/trademark_litigation/index.html%3Fpage%3D8&amp;usg=__zRLZc3eGLszgV4KqflSoOVfNCDc=&amp;h=300&amp;w=300&amp;sz=352&amp;hl=en&amp;start=1&amp;itbs=1&amp;tbnid=FFENYCorGhsoAM:&amp;tbnh=116&amp;tbnw=116&amp;prev=/images%3Fq%3Damerica%2Bsoccer%2Bteam%2Bmexico%26hl%3Den%26safe%3Dactive%26gbv%3D2%26tbs%3Disch:1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www.google.com/imgres?imgurl=http://muddydogcoffee.com/coffee/images/mexico-flag.jpg&amp;imgrefurl=http://www.muddydogcoffee.com/coffee/product_info.php%3Fproducts_id%3D221%26osCsid%3Dygoqvyfdhtp&amp;usg=__KC-lbpt3CwKza5GqxYAzmWBsEbQ=&amp;h=544&amp;w=771&amp;sz=28&amp;hl=en&amp;start=35&amp;itbs=1&amp;tbnid=A2TtpBAcx6o4dM:&amp;tbnh=100&amp;tbnw=142&amp;prev=/images%3Fq%3Dmexico%26start%3D20%26hl%3Den%26safe%3Dactive%26sa%3DN%26gbv%3D2%26ndsp%3D20%26tbs%3Disch:1" TargetMode="External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google.com/imgres?imgurl=http://www.inhabitat.com/wp-content/uploads/hmorganic_springwomens1.jpg&amp;imgrefurl=http://1st-clothing.com/spring-clothing/&amp;usg=__wiw74tPbwAt5F31J0h0m5s_nAGg=&amp;h=400&amp;w=537&amp;sz=59&amp;hl=en&amp;start=9&amp;itbs=1&amp;tbnid=IxJD9UpnS9BgUM:&amp;tbnh=98&amp;tbnw=132&amp;prev=/images%3Fq%3Dspring%2Bclothes%26hl%3Den%26safe%3Dactive%26gbv%3D2%26tbs%3Disch:1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7772400" cy="579456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Edwardian Script ITC"/>
              </a:rPr>
              <a:t>La Clases De  Espanol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752480" y="54100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Edwardian Script ITC"/>
              </a:rPr>
              <a:t>By: Delmaja,and Leslie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1752480" y="1371600"/>
            <a:ext cx="57150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" dur="1" fill="hold"/>
                                  <p:tgtEl>
                                    <p:spTgt spid="35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f273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Edwardian Script ITC"/>
              </a:rPr>
              <a:t>Los Colores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685440" y="1980720"/>
            <a:ext cx="3814920" cy="198612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685440" y="4106520"/>
            <a:ext cx="3814920" cy="198900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64292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zu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marillo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Verd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Rojo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Blanco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0880" y="1600200"/>
            <a:ext cx="4038840" cy="449568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648320" y="4038480"/>
            <a:ext cx="40384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Edwardian Script ITC"/>
              </a:rPr>
              <a:t>Las Estaciones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14920" cy="41148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64292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199"/>
              </a:spcBef>
              <a:buClr>
                <a:srgbClr val="ff3399"/>
              </a:buClr>
              <a:buFont typeface="Edwardian Script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Edwardian Script ITC"/>
              </a:rPr>
              <a:t>Otono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-332640">
              <a:lnSpc>
                <a:spcPct val="100000"/>
              </a:lnSpc>
              <a:spcBef>
                <a:spcPts val="1199"/>
              </a:spcBef>
              <a:buClr>
                <a:srgbClr val="ff3399"/>
              </a:buClr>
              <a:buFont typeface="Edwardian Script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Edwardian Script ITC"/>
              </a:rPr>
              <a:t>El invierno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-332640">
              <a:lnSpc>
                <a:spcPct val="100000"/>
              </a:lnSpc>
              <a:spcBef>
                <a:spcPts val="1199"/>
              </a:spcBef>
              <a:buClr>
                <a:srgbClr val="ff3399"/>
              </a:buClr>
              <a:buFont typeface="Edwardian Script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Edwardian Script ITC"/>
              </a:rPr>
              <a:t>La primavera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-332640">
              <a:lnSpc>
                <a:spcPct val="100000"/>
              </a:lnSpc>
              <a:spcBef>
                <a:spcPts val="1199"/>
              </a:spcBef>
              <a:buClr>
                <a:srgbClr val="ff3399"/>
              </a:buClr>
              <a:buFont typeface="Edwardian Script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Edwardian Script ITC"/>
              </a:rPr>
              <a:t>El verano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396252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Edwardian Script ITC"/>
              </a:rPr>
              <a:t>La Ropa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14920" cy="411480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64292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El pantalo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La camiset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La chaqut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" y="1600200"/>
            <a:ext cx="4038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Edwardian Script ITC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Edwardian Script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30T18:34:02Z</dcterms:created>
  <dc:creator>WSFCS Workstation</dc:creator>
  <dc:description/>
  <dc:language>en-US</dc:language>
  <cp:lastModifiedBy>WSFCS Workstation</cp:lastModifiedBy>
  <dcterms:modified xsi:type="dcterms:W3CDTF">2010-04-30T18:58:34Z</dcterms:modified>
  <cp:revision>4</cp:revision>
  <dc:subject/>
  <dc:title>La Clases De  Espanol</dc:title>
</cp:coreProperties>
</file>